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omb.wav" ContentType="audio/x-wav"/>
  <Override PartName="/ppt/media/explode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D85-72C6-4042-8F4A-6CF041FC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E6C-5B68-4FBE-8C40-5C825202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AE6-67CA-42DD-BBC4-5FECFD05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9B1-B6E5-46BC-838F-8740610A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9BC-A9F0-450D-8407-9375C66D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2F5-1A70-4417-B0C2-C65FB09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0D9-637D-4E69-B5A0-6EC47AA5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CD6-BEA5-489C-9F39-F9243B8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AEF-BF2C-44C3-B9BE-38C6682E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622-C328-4C2F-96EF-63435B8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D77-AE7C-4F16-986E-32632597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D27-AE64-4824-9406-10C1D7D5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36B5-261F-433D-AA34-C8E5F6E241FF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-H1jBY7EVE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5640" y="429264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youtube.com/watch?v=v-H1jBY7E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0" y="0"/>
            <a:ext cx="9925200" cy="6858000"/>
            <a:chOff x="0" y="0"/>
            <a:chExt cx="9925200" cy="6858000"/>
          </a:xfrm>
        </p:grpSpPr>
        <p:pic>
          <p:nvPicPr>
            <p:cNvPr id="93" name="Picture 2" descr="http://www.xtimeline.com/__UserPic_Large/41432/evt091220192100248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998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http://www.xtimeline.com/__UserPic_Large/41432/evt091220192100248.gif"/>
            <p:cNvPicPr/>
            <p:nvPr/>
          </p:nvPicPr>
          <p:blipFill>
            <a:blip r:embed="rId2"/>
            <a:stretch/>
          </p:blipFill>
          <p:spPr>
            <a:xfrm>
              <a:off x="4926240" y="0"/>
              <a:ext cx="49989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October Manifes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cholas had to do something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October 1905 he issues the October Manifes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agreed to and elected parliament called a </a:t>
            </a:r>
            <a:r>
              <a:rPr b="1" lang="en-GB" sz="3200" spc="-1" strike="noStrike">
                <a:solidFill>
                  <a:srgbClr val="00b0f0"/>
                </a:solidFill>
                <a:latin typeface="Comic Sans MS"/>
              </a:rPr>
              <a:t>Dum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help run the coun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also gave basic rights of free speech and freedom to form political pa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berals were happy, but others did not trust Nicholas to keep his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8604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December Nicholas had changed his mind and members of the St Petersburg Soviet were arrested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Fighting broke out across Russia and many died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ands of thugs called the </a:t>
            </a:r>
            <a:r>
              <a:rPr b="0" lang="en-GB" sz="2700" spc="-1" strike="noStrike">
                <a:solidFill>
                  <a:srgbClr val="00b0f0"/>
                </a:solidFill>
                <a:latin typeface="Comic Sans MS"/>
              </a:rPr>
              <a:t>“</a:t>
            </a:r>
            <a:r>
              <a:rPr b="1" lang="en-GB" sz="2700" spc="-1" strike="noStrike">
                <a:solidFill>
                  <a:srgbClr val="00b0f0"/>
                </a:solidFill>
                <a:latin typeface="Comic Sans MS"/>
              </a:rPr>
              <a:t>Black Hundreds”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assacred the revolutionarie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March 1906 the revolution was over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Elections for the Duma were held in March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When they met for the first time Nicholas issued a set of </a:t>
            </a:r>
            <a:r>
              <a:rPr b="1" lang="en-GB" sz="2700" spc="-1" strike="noStrike">
                <a:solidFill>
                  <a:srgbClr val="00b0f0"/>
                </a:solidFill>
                <a:latin typeface="Comic Sans MS"/>
              </a:rPr>
              <a:t>Fundamental Laws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1. To the Emperor of all the Russias belongs supreme autocratic power”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6" descr="http://annyas.com/htdocs/wp-content/uploads/2012/03/artist-the-end-laurel-hardy-1927-second-hundred-years.jpg"/>
          <p:cNvPicPr/>
          <p:nvPr/>
        </p:nvPicPr>
        <p:blipFill>
          <a:blip r:embed="rId1"/>
          <a:stretch/>
        </p:blipFill>
        <p:spPr>
          <a:xfrm>
            <a:off x="2627280" y="0"/>
            <a:ext cx="3313080" cy="1557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egan with mutiny of sailo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easants rebel in the country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General strike across Russia of all worke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Soviets established to run cities and keep order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October Manifesto promises elected parliament and basic right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December Nicholas changed mind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March revolution over after many death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Fundamental Laws show that nothing has changed – Tsar still autocrat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8" descr="http://thewritepractice.com/wp-content/uploads/2013/05/the-end.jpg"/>
          <p:cNvPicPr/>
          <p:nvPr/>
        </p:nvPicPr>
        <p:blipFill>
          <a:blip r:embed="rId1"/>
          <a:stretch/>
        </p:blipFill>
        <p:spPr>
          <a:xfrm>
            <a:off x="6300720" y="404640"/>
            <a:ext cx="2255760" cy="1702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Why did the war with Japan make the Tsar unpopular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o you think the decision to open fire on protestors during Bloody Sunday a sensible one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escribe the events of the 1905 Revolu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What did the October Manifesto promise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ow successful was the 1905 Revolution?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War with Jap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1904 Russia went to war with Ja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sar Nicholas thought victory would be qui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http://cvgs.cu-portland.edu/images/Russo_Japanese_War.jpg"/>
          <p:cNvPicPr/>
          <p:nvPr/>
        </p:nvPicPr>
        <p:blipFill>
          <a:blip r:embed="rId1"/>
          <a:srcRect l="50401" t="0" r="0" b="0"/>
          <a:stretch/>
        </p:blipFill>
        <p:spPr>
          <a:xfrm>
            <a:off x="4892760" y="1104840"/>
            <a:ext cx="4251240" cy="5753160"/>
          </a:xfrm>
          <a:prstGeom prst="rect">
            <a:avLst/>
          </a:prstGeom>
          <a:ln w="0">
            <a:noFill/>
          </a:ln>
        </p:spPr>
      </p:pic>
    </p:spTree>
  </p:cSld>
  <p:transition>
    <p:pull dir="r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6" descr="http://russianculture.files.wordpress.com/2010/06/kiyochika-kobayashi-russo-japanese-war-1904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 rot="788400">
            <a:off x="6349320" y="4529160"/>
            <a:ext cx="28623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sar Nicholas was very unpop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50920" y="189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ever the Russian army kept being defe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5288040"/>
            <a:ext cx="83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fe for the working people go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rse as the food supplies to cities brok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wn and factories ran out of raw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https://encrypted-tbn2.gstatic.com/images?q=tbn:ANd9GcS2qpTa_AgpdSIDZvNgu48jg1Yvg1n87GFRfhK86v4ttI-TDKF-nPdiMSR1"/>
          <p:cNvPicPr/>
          <p:nvPr/>
        </p:nvPicPr>
        <p:blipFill>
          <a:blip r:embed="rId1"/>
          <a:stretch/>
        </p:blipFill>
        <p:spPr>
          <a:xfrm>
            <a:off x="0" y="0"/>
            <a:ext cx="9144000" cy="8988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1052280"/>
            <a:ext cx="5184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Bloody Sun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565000"/>
            <a:ext cx="8229600" cy="230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When?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Sunday 22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January 1905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Who?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Hundreds of Petrograd (St Petersburg) workers in their best clothes take part in a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peaceful march 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ed by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Father Gap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6" descr="http://www.historyhome.co.uk/europe/pictures/bloodysu.jpg"/>
          <p:cNvPicPr/>
          <p:nvPr/>
        </p:nvPicPr>
        <p:blipFill>
          <a:blip r:embed="rId2"/>
          <a:stretch/>
        </p:blipFill>
        <p:spPr>
          <a:xfrm>
            <a:off x="539640" y="4941720"/>
            <a:ext cx="33847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www.allrussias.com/images/1905_bloody%20sunday.jpg"/>
          <p:cNvPicPr/>
          <p:nvPr/>
        </p:nvPicPr>
        <p:blipFill>
          <a:blip r:embed="rId3"/>
          <a:stretch/>
        </p:blipFill>
        <p:spPr>
          <a:xfrm>
            <a:off x="4284720" y="4941720"/>
            <a:ext cx="4464000" cy="2303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encrypted-tbn2.gstatic.com/images?q=tbn:ANd9GcS2qpTa_AgpdSIDZvNgu48jg1Yvg1n87GFRfhK86v4ttI-TDKF-nPdiMSR1"/>
          <p:cNvPicPr/>
          <p:nvPr/>
        </p:nvPicPr>
        <p:blipFill>
          <a:blip r:embed="rId1"/>
          <a:srcRect l="0" t="1634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8360" y="119700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What?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 March to Tsar’s palace led by priests to present him with a petition which demanded 8 hour days, a minimum wage, a parliament, equality, freedom of press/religion/assembly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When they reached the palace troops opened fire, 96 died 333 wounded (approx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Impact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 = Convinced the people that Tsar no longer “Dear Father”, produced strikes and mutiny which led to 1905 Revolu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987640" y="404640"/>
            <a:ext cx="244800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om Inside Rus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276720" y="6237360"/>
            <a:ext cx="2447640" cy="368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om outside Rus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68360" y="1628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Sund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979640" y="1052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orking conditions in fac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356000" y="1197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overnment reaction to prot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44364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 refor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7596360" y="206064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ising tax to pay for war with Jap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324000" y="263700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 freedom or righ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1187280" y="4941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deas of Mar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635280" y="501336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y failure in war with Jap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659640" y="5084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stern ideas of democracy from Euro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2987640" y="2637000"/>
            <a:ext cx="3600360" cy="1922400"/>
          </a:xfrm>
          <a:prstGeom prst="rect">
            <a:avLst/>
          </a:prstGeom>
          <a:solidFill>
            <a:srgbClr val="ebf1de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Revolution of 190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" name="Straight Arrow Connector 16"/>
          <p:cNvCxnSpPr/>
          <p:nvPr/>
        </p:nvCxnSpPr>
        <p:spPr>
          <a:xfrm>
            <a:off x="2050560" y="2349000"/>
            <a:ext cx="577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18"/>
          <p:cNvCxnSpPr/>
          <p:nvPr/>
        </p:nvCxnSpPr>
        <p:spPr>
          <a:xfrm>
            <a:off x="1692360" y="3212640"/>
            <a:ext cx="1008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21"/>
          <p:cNvCxnSpPr/>
          <p:nvPr/>
        </p:nvCxnSpPr>
        <p:spPr>
          <a:xfrm>
            <a:off x="3347640" y="1989000"/>
            <a:ext cx="14472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23"/>
          <p:cNvCxnSpPr/>
          <p:nvPr/>
        </p:nvCxnSpPr>
        <p:spPr>
          <a:xfrm flipH="1">
            <a:off x="5002920" y="2133720"/>
            <a:ext cx="7380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25"/>
          <p:cNvCxnSpPr/>
          <p:nvPr/>
        </p:nvCxnSpPr>
        <p:spPr>
          <a:xfrm flipH="1">
            <a:off x="6516000" y="1915920"/>
            <a:ext cx="577080" cy="43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27"/>
          <p:cNvCxnSpPr/>
          <p:nvPr/>
        </p:nvCxnSpPr>
        <p:spPr>
          <a:xfrm flipH="1">
            <a:off x="6732360" y="3141720"/>
            <a:ext cx="5040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29"/>
          <p:cNvCxnSpPr/>
          <p:nvPr/>
        </p:nvCxnSpPr>
        <p:spPr>
          <a:xfrm flipV="1">
            <a:off x="2124000" y="4436640"/>
            <a:ext cx="4327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31"/>
          <p:cNvCxnSpPr/>
          <p:nvPr/>
        </p:nvCxnSpPr>
        <p:spPr>
          <a:xfrm flipV="1">
            <a:off x="5003280" y="4723560"/>
            <a:ext cx="108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36"/>
          <p:cNvCxnSpPr/>
          <p:nvPr/>
        </p:nvCxnSpPr>
        <p:spPr>
          <a:xfrm flipH="1" flipV="1">
            <a:off x="6948000" y="4507920"/>
            <a:ext cx="720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Mutin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26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ne 1905 the crew of the battleship Potemkin threw their officers overboard and took control of the sh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showed that Tsar Nicholas could not trust or control his milit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140360" y="5661000"/>
            <a:ext cx="4572000" cy="8254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omic Sans MS"/>
              </a:rPr>
              <a:t>Mutiny = rebellion against commanding offic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http://www.ufunk.net/wp-content/uploads/2013/07/Pirates-des-Caraibes-Aux-Frontieres-de-LOubli-7.jpg"/>
          <p:cNvPicPr/>
          <p:nvPr/>
        </p:nvPicPr>
        <p:blipFill>
          <a:blip r:embed="rId1"/>
          <a:stretch/>
        </p:blipFill>
        <p:spPr>
          <a:xfrm>
            <a:off x="324000" y="4076640"/>
            <a:ext cx="3490920" cy="2598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omic Sans MS"/>
              </a:rPr>
              <a:t>The Peasants Rebel and the Workers Strik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5736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 many areas of the country the peasants rebell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andlords were murdered and farms burn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 September a general strike began with factories, offices, shops and railways closing across Russi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http://socialistworker.co.uk/imageFiles/Image/2008/2109/pcs_museum.jpg"/>
          <p:cNvPicPr/>
          <p:nvPr/>
        </p:nvPicPr>
        <p:blipFill>
          <a:blip r:embed="rId1"/>
          <a:stretch/>
        </p:blipFill>
        <p:spPr>
          <a:xfrm>
            <a:off x="5334120" y="2276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Sovi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51280" y="16002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To help run the strikes smoothly and keep order, councils called </a:t>
            </a: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Soviets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were establish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They soon became an alternative form of government which had the support of the peopl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http://www.amerika.org/wp-content/uploads/soviet_union-1.jpg"/>
          <p:cNvPicPr/>
          <p:nvPr/>
        </p:nvPicPr>
        <p:blipFill>
          <a:blip r:embed="rId1"/>
          <a:stretch/>
        </p:blipFill>
        <p:spPr>
          <a:xfrm>
            <a:off x="684360" y="170028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4:02:48Z</dcterms:created>
  <dc:creator>Natalie1990</dc:creator>
  <dc:description/>
  <dc:language>en-US</dc:language>
  <cp:lastModifiedBy>Natalie1990</cp:lastModifiedBy>
  <dcterms:modified xsi:type="dcterms:W3CDTF">2013-08-25T15:53:19Z</dcterms:modified>
  <cp:revision>12</cp:revision>
  <dc:subject/>
  <dc:title>The 1905 Revolution</dc:title>
</cp:coreProperties>
</file>